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51450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31AF-639A-4AE8-96D6-D45B750C6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80755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1280" y="2973240"/>
            <a:ext cx="80755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FFA5-2433-443D-96F9-75E2BBD0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912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1280" y="2973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9120" y="2973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986F-7F78-40B7-906C-9D99E2A77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1520" y="1200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1760" y="1200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1280" y="2973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1520" y="2973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1760" y="2973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59FB-18AE-4617-BEE2-6C548C945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1280" y="1200240"/>
            <a:ext cx="807552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2463-FDF5-4D4E-A112-1F3EDF67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80755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2871-9AA4-4A74-A7B0-D170282C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39405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9120" y="1200240"/>
            <a:ext cx="39405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33E3-11DB-4545-AE90-82598966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8BBE-48E3-4EAF-9BE2-DA16629A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1280" y="206280"/>
            <a:ext cx="8075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97A0-35B9-4804-A5BF-8A8502B3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9120" y="1200240"/>
            <a:ext cx="39405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1280" y="2973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844B-A7F6-4FFF-BD07-761C3542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39405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912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9120" y="2973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5EA3-0F72-4498-B7CC-EFE2EDDD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912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1280" y="2973240"/>
            <a:ext cx="80755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FB05-73ED-405F-944F-A8653846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1280" y="1200240"/>
            <a:ext cx="80755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1280" y="476676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3B4D-C8BF-42C5-A0C6-B0E765C96D7A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1116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7E01-C44D-4A8B-B881-ED4510CE3BD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1"/>
          <p:cNvSpPr/>
          <p:nvPr/>
        </p:nvSpPr>
        <p:spPr>
          <a:xfrm>
            <a:off x="7010280" y="11160"/>
            <a:ext cx="21337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EE5E-AC03-4B43-B441-5B2D075D3A33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15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90180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2143080" y="142920"/>
            <a:ext cx="421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ТОРЕПОРТАЖ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«Лицей 1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7" descr=""/>
          <p:cNvPicPr/>
          <p:nvPr/>
        </p:nvPicPr>
        <p:blipFill>
          <a:blip r:embed="rId2"/>
          <a:stretch/>
        </p:blipFill>
        <p:spPr>
          <a:xfrm>
            <a:off x="1324080" y="911160"/>
            <a:ext cx="2841480" cy="1656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8" descr=""/>
          <p:cNvPicPr/>
          <p:nvPr/>
        </p:nvPicPr>
        <p:blipFill>
          <a:blip r:embed="rId3"/>
          <a:stretch/>
        </p:blipFill>
        <p:spPr>
          <a:xfrm>
            <a:off x="4788000" y="911160"/>
            <a:ext cx="2663640" cy="1656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2" descr=""/>
          <p:cNvPicPr/>
          <p:nvPr/>
        </p:nvPicPr>
        <p:blipFill>
          <a:blip r:embed="rId4"/>
          <a:stretch/>
        </p:blipFill>
        <p:spPr>
          <a:xfrm>
            <a:off x="4165560" y="2798640"/>
            <a:ext cx="1652760" cy="22021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"/>
          <p:cNvPicPr/>
          <p:nvPr/>
        </p:nvPicPr>
        <p:blipFill>
          <a:blip r:embed="rId5"/>
          <a:stretch/>
        </p:blipFill>
        <p:spPr>
          <a:xfrm>
            <a:off x="971640" y="2811600"/>
            <a:ext cx="2917800" cy="21891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6" descr=""/>
          <p:cNvPicPr/>
          <p:nvPr/>
        </p:nvPicPr>
        <p:blipFill>
          <a:blip r:embed="rId6"/>
          <a:stretch/>
        </p:blipFill>
        <p:spPr>
          <a:xfrm>
            <a:off x="6156360" y="2774880"/>
            <a:ext cx="273528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1"/>
          <p:cNvSpPr/>
          <p:nvPr/>
        </p:nvSpPr>
        <p:spPr>
          <a:xfrm>
            <a:off x="7010280" y="11160"/>
            <a:ext cx="21337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99D8-5C8D-40C0-86A6-65E1B769101E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5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90180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2143080" y="142920"/>
            <a:ext cx="421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ТОРЕПОРТАЖ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«Лицей 1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3"/>
          <p:cNvSpPr/>
          <p:nvPr/>
        </p:nvSpPr>
        <p:spPr>
          <a:xfrm>
            <a:off x="4419720" y="2419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4" descr=""/>
          <p:cNvPicPr/>
          <p:nvPr/>
        </p:nvPicPr>
        <p:blipFill>
          <a:blip r:embed="rId2"/>
          <a:stretch/>
        </p:blipFill>
        <p:spPr>
          <a:xfrm>
            <a:off x="971640" y="987480"/>
            <a:ext cx="1871640" cy="15843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1" descr=""/>
          <p:cNvPicPr/>
          <p:nvPr/>
        </p:nvPicPr>
        <p:blipFill>
          <a:blip r:embed="rId3"/>
          <a:stretch/>
        </p:blipFill>
        <p:spPr>
          <a:xfrm>
            <a:off x="3492360" y="987480"/>
            <a:ext cx="2303640" cy="15843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3" descr=""/>
          <p:cNvPicPr/>
          <p:nvPr/>
        </p:nvPicPr>
        <p:blipFill>
          <a:blip r:embed="rId4"/>
          <a:stretch/>
        </p:blipFill>
        <p:spPr>
          <a:xfrm>
            <a:off x="6219720" y="1058760"/>
            <a:ext cx="2303640" cy="15130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5" descr=""/>
          <p:cNvPicPr/>
          <p:nvPr/>
        </p:nvPicPr>
        <p:blipFill>
          <a:blip r:embed="rId5"/>
          <a:stretch/>
        </p:blipFill>
        <p:spPr>
          <a:xfrm>
            <a:off x="1547640" y="2757600"/>
            <a:ext cx="2745000" cy="20588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7" descr=""/>
          <p:cNvPicPr/>
          <p:nvPr/>
        </p:nvPicPr>
        <p:blipFill>
          <a:blip r:embed="rId6"/>
          <a:stretch/>
        </p:blipFill>
        <p:spPr>
          <a:xfrm>
            <a:off x="4925880" y="2762280"/>
            <a:ext cx="292572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1"/>
          <p:cNvSpPr/>
          <p:nvPr/>
        </p:nvSpPr>
        <p:spPr>
          <a:xfrm>
            <a:off x="7010280" y="11160"/>
            <a:ext cx="21337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129C-7033-4421-97CE-B118B5763D39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5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90180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2143080" y="142920"/>
            <a:ext cx="421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ТОРЕПОРТАЖ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«Лицей 1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8"/>
          <p:cNvSpPr/>
          <p:nvPr/>
        </p:nvSpPr>
        <p:spPr>
          <a:xfrm>
            <a:off x="2935440" y="987480"/>
            <a:ext cx="3652560" cy="195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сентября 2021г. прошла  ежегодная Всемирная образовательная акция «</a:t>
            </a:r>
            <a:r>
              <a:rPr b="1" i="1" lang="ru-RU" sz="11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Татарча диктант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. «</a:t>
            </a:r>
            <a:r>
              <a:rPr b="1" i="1" lang="ru-RU" sz="11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атарча диктант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— это диктант на татарском языке, обучение татарскому языку без ошибок, увеличение круга пользователей литературного татарского языка, проверка орфографических и грамматических ошибок. Акция направлена на повышение интереса к грамотному правописанию, владению литературным татарским, самопроверку орфографических и грамматических ошибок. Из нашего лицея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няли участие 83 учащих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2" descr=""/>
          <p:cNvPicPr/>
          <p:nvPr/>
        </p:nvPicPr>
        <p:blipFill>
          <a:blip r:embed="rId2"/>
          <a:stretch/>
        </p:blipFill>
        <p:spPr>
          <a:xfrm>
            <a:off x="687240" y="987480"/>
            <a:ext cx="2097360" cy="18320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4" descr=""/>
          <p:cNvPicPr/>
          <p:nvPr/>
        </p:nvPicPr>
        <p:blipFill>
          <a:blip r:embed="rId3"/>
          <a:stretch/>
        </p:blipFill>
        <p:spPr>
          <a:xfrm>
            <a:off x="763560" y="3141720"/>
            <a:ext cx="2067120" cy="168912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" descr=""/>
          <p:cNvPicPr/>
          <p:nvPr/>
        </p:nvPicPr>
        <p:blipFill>
          <a:blip r:embed="rId4"/>
          <a:stretch/>
        </p:blipFill>
        <p:spPr>
          <a:xfrm>
            <a:off x="3308400" y="3240000"/>
            <a:ext cx="2952720" cy="15652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9" descr=""/>
          <p:cNvPicPr/>
          <p:nvPr/>
        </p:nvPicPr>
        <p:blipFill>
          <a:blip r:embed="rId5"/>
          <a:stretch/>
        </p:blipFill>
        <p:spPr>
          <a:xfrm>
            <a:off x="6765840" y="1130400"/>
            <a:ext cx="2133720" cy="16891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1" descr=""/>
          <p:cNvPicPr/>
          <p:nvPr/>
        </p:nvPicPr>
        <p:blipFill>
          <a:blip r:embed="rId6"/>
          <a:stretch/>
        </p:blipFill>
        <p:spPr>
          <a:xfrm>
            <a:off x="6721560" y="3048120"/>
            <a:ext cx="217800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3T08:15:21Z</dcterms:created>
  <dc:creator>Ковалева Валерия Юрьевна</dc:creator>
  <dc:description/>
  <dc:language>en-US</dc:language>
  <cp:lastModifiedBy>Professional</cp:lastModifiedBy>
  <cp:lastPrinted>2021-02-04T07:26:50Z</cp:lastPrinted>
  <dcterms:modified xsi:type="dcterms:W3CDTF">2021-09-24T16:16:49Z</dcterms:modified>
  <cp:revision>461</cp:revision>
  <dc:subject/>
  <dc:title>Презентация PowerPoint</dc:title>
</cp:coreProperties>
</file>